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3.jpeg" ContentType="image/jpeg"/>
  <Override PartName="/ppt/media/image12.png" ContentType="image/pn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44.jpeg" ContentType="image/jpeg"/>
  <Override PartName="/ppt/media/image8.jpeg" ContentType="image/jpeg"/>
  <Override PartName="/ppt/media/image10.jpeg" ContentType="image/jpeg"/>
  <Override PartName="/ppt/media/image20.jpeg" ContentType="image/jpeg"/>
  <Override PartName="/ppt/media/image31.png" ContentType="image/png"/>
  <Override PartName="/ppt/media/image36.jpeg" ContentType="image/jpeg"/>
  <Override PartName="/ppt/media/image11.jpeg" ContentType="image/jpeg"/>
  <Override PartName="/ppt/media/image40.gif" ContentType="image/gif"/>
  <Override PartName="/ppt/media/image43.jpeg" ContentType="image/jpeg"/>
  <Override PartName="/ppt/media/image6.jpeg" ContentType="image/jpeg"/>
  <Override PartName="/ppt/media/image45.jpeg" ContentType="image/jpeg"/>
  <Override PartName="/ppt/media/image38.jpeg" ContentType="image/jpeg"/>
  <Override PartName="/ppt/media/image28.png" ContentType="image/png"/>
  <Override PartName="/ppt/media/image35.gif" ContentType="image/gif"/>
  <Override PartName="/ppt/media/image7.jpeg" ContentType="image/jpeg"/>
  <Override PartName="/ppt/media/image5.jpeg" ContentType="image/jpeg"/>
  <Override PartName="/ppt/media/image13.jpeg" ContentType="image/jpeg"/>
  <Override PartName="/ppt/media/image34.png" ContentType="image/png"/>
  <Override PartName="/ppt/media/image41.gif" ContentType="image/gif"/>
  <Override PartName="/ppt/media/image4.png" ContentType="image/png"/>
  <Override PartName="/ppt/media/image32.jpeg" ContentType="image/jpeg"/>
  <Override PartName="/ppt/media/image24.gif" ContentType="image/gif"/>
  <Override PartName="/ppt/media/image33.jpeg" ContentType="image/jpeg"/>
  <Override PartName="/ppt/media/image27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2.png" ContentType="image/pn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42A0-8B91-4A9B-AFFC-E08A3009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08DD-6BBA-4C68-9DD6-A8C544AD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24A5-5E1D-4286-84B8-BA364EF7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23E9-BB9B-4913-BF6E-3C3476C61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228D-F7BF-4360-A888-14F9AAE9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0236-6B95-4C85-A6EB-52676E24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4D2D-ADCF-4715-8F1C-5FD6542A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DBAC-03CE-4BF5-A895-7407456F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46E4-4F6B-432E-93CA-0095CFC1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0E25-D952-4966-9B06-F2255A95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F61D-157F-4B91-ABAC-AD284CA9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D29B-666C-4CA8-8D3F-D259B993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91e"/>
            </a:gs>
            <a:gs pos="50000">
              <a:srgbClr val="99ff33"/>
            </a:gs>
            <a:gs pos="100000">
              <a:srgbClr val="5c991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0004-513D-4B23-87C3-45EE2F990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hyperlink" Target="http://www.youtube.com/watch?v=mixcl71HoNQ" TargetMode="External"/><Relationship Id="rId4" Type="http://schemas.openxmlformats.org/officeDocument/2006/relationships/image" Target="../media/image27.png"/><Relationship Id="rId5" Type="http://schemas.openxmlformats.org/officeDocument/2006/relationships/hyperlink" Target="http://www.youtube.com/watch?v=QB3-qHWmhjQ" TargetMode="External"/><Relationship Id="rId6" Type="http://schemas.openxmlformats.org/officeDocument/2006/relationships/hyperlink" Target="http://www.youtube.com/watch?v=QB3-qHWmhjQ" TargetMode="External"/><Relationship Id="rId7" Type="http://schemas.openxmlformats.org/officeDocument/2006/relationships/hyperlink" Target="http://www.youtube.com/watch?v=QB3-qHWmhjQ" TargetMode="External"/><Relationship Id="rId8" Type="http://schemas.openxmlformats.org/officeDocument/2006/relationships/hyperlink" Target="http://www.youtube.com/watch?v=QB3-qHWmhjQ" TargetMode="External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hyperlink" Target="http://www.youtube.com/watch?v=SO0qNY_jm4U" TargetMode="External"/><Relationship Id="rId6" Type="http://schemas.openxmlformats.org/officeDocument/2006/relationships/hyperlink" Target="http://www.youtube.com/watch?v=SO0qNY_jm4U" TargetMode="External"/><Relationship Id="rId7" Type="http://schemas.openxmlformats.org/officeDocument/2006/relationships/hyperlink" Target="http://www.youtube.com/watch?v=SO0qNY_jm4U" TargetMode="External"/><Relationship Id="rId8" Type="http://schemas.openxmlformats.org/officeDocument/2006/relationships/hyperlink" Target="http://www.youtube.com/watch?v=SO0qNY_jm4U" TargetMode="External"/><Relationship Id="rId9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gif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%D4%EE%F1%F4%EE%F0" TargetMode="External"/><Relationship Id="rId2" Type="http://schemas.openxmlformats.org/officeDocument/2006/relationships/hyperlink" Target="http://dok.opredelim.com/docs/index-14731.html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hyperlink" Target="http://papamamaya.ucoz.ua/index/skolko_vesit_zemlja/0-37" TargetMode="External"/><Relationship Id="rId5" Type="http://schemas.openxmlformats.org/officeDocument/2006/relationships/hyperlink" Target="http://www.burundi.mid.ru/rusy_ru.html" TargetMode="External"/><Relationship Id="rId6" Type="http://schemas.openxmlformats.org/officeDocument/2006/relationships/hyperlink" Target="http://new-anoli.ru/post178761066" TargetMode="External"/><Relationship Id="rId7" Type="http://schemas.openxmlformats.org/officeDocument/2006/relationships/hyperlink" Target="http://www.liveinternet.ru/users/meego/page142.html" TargetMode="External"/><Relationship Id="rId8" Type="http://schemas.openxmlformats.org/officeDocument/2006/relationships/hyperlink" Target="http://www.spanishdict.com/answers/211140/our-resident-dog-loving-engineer-chris-indiana-has-50k" TargetMode="External"/><Relationship Id="rId9" Type="http://schemas.openxmlformats.org/officeDocument/2006/relationships/hyperlink" Target="http://www.mediagnosis.ru/HISTORY/GRAPH/Pictures/JPG/T9-01-03.jpg" TargetMode="External"/><Relationship Id="rId10" Type="http://schemas.openxmlformats.org/officeDocument/2006/relationships/hyperlink" Target="http://chscourier.com/wp-content/uploads/2013/03/12761136-earth-globe-cloud-map-side-of-the-asia-and-australia-298x298.jpg" TargetMode="External"/><Relationship Id="rId11" Type="http://schemas.openxmlformats.org/officeDocument/2006/relationships/hyperlink" Target="http://worldmystic.ru/uploads/posts/2011-10/1318410431_56701773_1269081769_solarsystem_1.jpg" TargetMode="External"/><Relationship Id="rId12" Type="http://schemas.openxmlformats.org/officeDocument/2006/relationships/hyperlink" Target="http://www.sevstone.ru/userfiles/Image/frankolit6-2x3x2.jpg" TargetMode="External"/><Relationship Id="rId13" Type="http://schemas.openxmlformats.org/officeDocument/2006/relationships/hyperlink" Target="http://www.muviki.ru/show/3294367.html" TargetMode="External"/><Relationship Id="rId14" Type="http://schemas.openxmlformats.org/officeDocument/2006/relationships/hyperlink" Target="http://www.vevivi.ru/best/Sestrinskoe-delo-v-khirurgii-ref168179.html" TargetMode="External"/><Relationship Id="rId15" Type="http://schemas.openxmlformats.org/officeDocument/2006/relationships/hyperlink" Target="http://o-zubah.ru/?p=524" TargetMode="External"/><Relationship Id="rId1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91e"/>
            </a:gs>
            <a:gs pos="50000">
              <a:srgbClr val="99ff33"/>
            </a:gs>
            <a:gs pos="100000">
              <a:srgbClr val="5c991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Тема:</a:t>
            </a:r>
            <a:r>
              <a:rPr b="1" lang="en-US" sz="4400" spc="-1" strike="noStrike">
                <a:solidFill>
                  <a:srgbClr val="ccff66"/>
                </a:solidFill>
                <a:latin typeface="Arial"/>
              </a:rPr>
              <a:t> «Фосфор – элемент мысли и жизн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47640" y="5516640"/>
            <a:ext cx="6400800" cy="936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тегрированный урок по химии и русскому языку в 9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2283840"/>
            <a:ext cx="7921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Эпигра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«Деятельность - единственный путь к знанию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Бернард Ш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91e"/>
            </a:gs>
            <a:gs pos="50000">
              <a:srgbClr val="99ff33"/>
            </a:gs>
            <a:gs pos="100000">
              <a:srgbClr val="5c991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Кристаллическая решетка фосф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4038480" cy="3101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4038840" cy="3097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91e"/>
            </a:gs>
            <a:gs pos="50000">
              <a:srgbClr val="99ff33"/>
            </a:gs>
            <a:gs pos="100000">
              <a:srgbClr val="5c991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91e"/>
            </a:gs>
            <a:gs pos="50000">
              <a:srgbClr val="99ff33"/>
            </a:gs>
            <a:gs pos="100000">
              <a:srgbClr val="5c991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340000" y="5589720"/>
            <a:ext cx="4753080" cy="71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Отчет групп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«Хими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40000" y="1773360"/>
            <a:ext cx="4751280" cy="3573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1326960" y="1268280"/>
            <a:ext cx="659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Опыт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«Горение красного фосфора в кислород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43480" y="6256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68840" y="5661000"/>
            <a:ext cx="357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Р + 5О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2Р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91e"/>
            </a:gs>
            <a:gs pos="50000">
              <a:srgbClr val="99ff33"/>
            </a:gs>
            <a:gs pos="100000">
              <a:srgbClr val="5c991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 flipH="1">
            <a:off x="-253080" y="1744560"/>
            <a:ext cx="9396360" cy="5113440"/>
          </a:xfrm>
          <a:prstGeom prst="cloudCallout">
            <a:avLst>
              <a:gd name="adj1" fmla="val -37754"/>
              <a:gd name="adj2" fmla="val 55277"/>
            </a:avLst>
          </a:prstGeom>
          <a:solidFill>
            <a:srgbClr val="ffffff">
              <a:alpha val="8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Вывод</a:t>
            </a:r>
            <a:r>
              <a:rPr b="1" i="1" lang="en-US" sz="44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000" y="2898720"/>
            <a:ext cx="79311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При сжигании ………..образуется белый ……., который медленно оседает на стенках ……… в виде белого порошка, фосфорного ангидрида (Р</a:t>
            </a:r>
            <a:r>
              <a:rPr b="1" i="1" lang="en-US" sz="24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О</a:t>
            </a:r>
            <a:r>
              <a:rPr b="1" i="1" lang="en-US" sz="2400" spc="-1" strike="noStrike" baseline="-25000">
                <a:solidFill>
                  <a:srgbClr val="000099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), раствор которого окрашивает ………. в розовый цвет, что свидетельствует о ………….. характере этого ……… 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5300640"/>
            <a:ext cx="1728720" cy="1190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680" y="189000"/>
            <a:ext cx="89773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дание по русскому языку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спользуя знания химической терминологии, вставьте пропущенные термины в данное предложение и дайте характеристику предложению по структуре . К какому стилю речи можно отнести это предложение? Ответ обоснуй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91e"/>
            </a:gs>
            <a:gs pos="50000">
              <a:srgbClr val="99ff33"/>
            </a:gs>
            <a:gs pos="100000">
              <a:srgbClr val="5c991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 flipH="1">
            <a:off x="-253080" y="907920"/>
            <a:ext cx="9396360" cy="5472360"/>
          </a:xfrm>
          <a:prstGeom prst="cloudCallout">
            <a:avLst>
              <a:gd name="adj1" fmla="val -37717"/>
              <a:gd name="adj2" fmla="val 54986"/>
            </a:avLst>
          </a:prstGeom>
          <a:solidFill>
            <a:srgbClr val="ffffff">
              <a:alpha val="8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Вывод</a:t>
            </a:r>
            <a:r>
              <a:rPr b="1" i="1" lang="en-US" sz="44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2276280"/>
            <a:ext cx="7931160" cy="39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При сжигании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фосфора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образуется белый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дым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, который медленно оседает на стенках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колбы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в виде белого порошка, фосфорного ангидрида (Р</a:t>
            </a:r>
            <a:r>
              <a:rPr b="1" i="1" lang="en-US" sz="24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О</a:t>
            </a:r>
            <a:r>
              <a:rPr b="1" i="1" lang="en-US" sz="2400" spc="-1" strike="noStrike" baseline="-25000">
                <a:solidFill>
                  <a:srgbClr val="000099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), раствор которого окрашивает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лакмус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в розовый цвет, что свидетельствует о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кислотном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характере этого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оксида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164360" y="5300640"/>
            <a:ext cx="1728720" cy="1190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843280" y="260280"/>
            <a:ext cx="33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Само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91e"/>
            </a:gs>
            <a:gs pos="50000">
              <a:srgbClr val="99ff33"/>
            </a:gs>
            <a:gs pos="100000">
              <a:srgbClr val="5c991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Правильный 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пущенные слова: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фосфора, дым, колбы, лакмус, кислотном, оксид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ложноподчиненное предложение, состоящее из 4-х частей. Это предложение относится к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научному стил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речи, которому присуще употребление научных терминов, символов (химических формул), однозначные слова, логичность су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91e"/>
            </a:gs>
            <a:gs pos="50000">
              <a:srgbClr val="99ff33"/>
            </a:gs>
            <a:gs pos="100000">
              <a:srgbClr val="5c991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С неметаллами фосфор – восстанови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С металлами фосфор – окисли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Взаимодействие фосфора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с простыми вещест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13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9962e4567ffbbeffabd8a2b384bbee2c" descr="\mathsf{2P + 3S \rightarrow P_2S_3}"/>
          <p:cNvPicPr/>
          <p:nvPr/>
        </p:nvPicPr>
        <p:blipFill>
          <a:blip r:embed="rId1"/>
          <a:stretch/>
        </p:blipFill>
        <p:spPr>
          <a:xfrm>
            <a:off x="1332000" y="2276640"/>
            <a:ext cx="2735280" cy="341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329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bdaaddc3ab4e5232b5cb5df88c842d72" descr="\mathsf{2P + 5Cl_2 \rightarrow 2PCl_5}"/>
          <p:cNvPicPr/>
          <p:nvPr/>
        </p:nvPicPr>
        <p:blipFill>
          <a:blip r:embed="rId2"/>
          <a:stretch/>
        </p:blipFill>
        <p:spPr>
          <a:xfrm>
            <a:off x="1332000" y="2852640"/>
            <a:ext cx="3024000" cy="325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332000" y="3222720"/>
            <a:ext cx="698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смотр видеоопы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3"/>
              </a:rPr>
              <a:t>http://www.youtube.com/watch?v=mixcl71HoN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b2bf54dbdddb9cb9a93908d9c8aaee0c" descr="\mathsf{2P + 3Ca \rightarrow Ca_3P_2}"/>
          <p:cNvPicPr/>
          <p:nvPr/>
        </p:nvPicPr>
        <p:blipFill>
          <a:blip r:embed="rId4"/>
          <a:stretch/>
        </p:blipFill>
        <p:spPr>
          <a:xfrm>
            <a:off x="1476360" y="4869000"/>
            <a:ext cx="4032360" cy="431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116000" y="5443920"/>
            <a:ext cx="662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смотр видеоопыта: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5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6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7"/>
              </a:rPr>
              <a:t>www.youtube.com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8"/>
              </a:rPr>
              <a:t>/watch?v=QB3-qHWmhj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91e"/>
            </a:gs>
            <a:gs pos="50000">
              <a:srgbClr val="99ff33"/>
            </a:gs>
            <a:gs pos="100000">
              <a:srgbClr val="5c991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Взаимодействие фосфора </a:t>
            </a:r>
            <a:br>
              <a:rPr sz="2400"/>
            </a:b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с водяным паром</a:t>
            </a:r>
            <a:br>
              <a:rPr sz="2400"/>
            </a:br>
            <a:r>
              <a:rPr b="1" i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( при температура выше 500 градусов с образованием  фосфина и ортофосфорной кисл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\mathsf{8P + 12H_2O \rightarrow 5PH_3 + 3H_3PO_4}"/>
          <p:cNvPicPr/>
          <p:nvPr/>
        </p:nvPicPr>
        <p:blipFill>
          <a:blip r:embed="rId1"/>
          <a:stretch/>
        </p:blipFill>
        <p:spPr>
          <a:xfrm>
            <a:off x="1835280" y="1700280"/>
            <a:ext cx="5545080" cy="355680"/>
          </a:xfrm>
          <a:prstGeom prst="rect">
            <a:avLst/>
          </a:prstGeom>
          <a:ln w="0">
            <a:noFill/>
          </a:ln>
        </p:spPr>
      </p:pic>
      <p:pic>
        <p:nvPicPr>
          <p:cNvPr id="132" name="fb08171945e2e029989636e476ad7905" descr="\mathsf{4P + 3KOH + 3H_2O \xrightarrow{\ \tau \ } PH_3 + 3KH_2PO_2}"/>
          <p:cNvPicPr/>
          <p:nvPr/>
        </p:nvPicPr>
        <p:blipFill>
          <a:blip r:embed="rId2"/>
          <a:stretch/>
        </p:blipFill>
        <p:spPr>
          <a:xfrm>
            <a:off x="1332000" y="3068640"/>
            <a:ext cx="6372000" cy="399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50920" y="213372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Взаимодействие фосфора </a:t>
            </a:r>
            <a:br>
              <a:rPr sz="2400"/>
            </a:b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с концентрированными щелочами на хол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573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Взаимодействие фосфора </a:t>
            </a:r>
            <a:br>
              <a:rPr sz="2400"/>
            </a:b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с концентрированными серной и азотной кисло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\mathsf{2P + 5H_2SO_4 \rightarrow 2H_3PO_4 + 5SO_2 + 2H_2O}"/>
          <p:cNvPicPr/>
          <p:nvPr/>
        </p:nvPicPr>
        <p:blipFill>
          <a:blip r:embed="rId3"/>
          <a:stretch/>
        </p:blipFill>
        <p:spPr>
          <a:xfrm>
            <a:off x="1403280" y="4581360"/>
            <a:ext cx="6335640" cy="312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a4ebb2c560ff6cae4d2cc4395b3a78e1" descr="\mathsf{3P + 5HNO_3 + 2H_2O \rightarrow 3H_3PO_4 + 5NO}"/>
          <p:cNvPicPr/>
          <p:nvPr/>
        </p:nvPicPr>
        <p:blipFill>
          <a:blip r:embed="rId4"/>
          <a:stretch/>
        </p:blipFill>
        <p:spPr>
          <a:xfrm>
            <a:off x="1332000" y="5157720"/>
            <a:ext cx="6048360" cy="306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438920" y="5718600"/>
            <a:ext cx="642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смотр видеоопыта: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5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6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7"/>
              </a:rPr>
              <a:t>www.youtube.com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8"/>
              </a:rPr>
              <a:t>/watch?v=SO0qNY_jm4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91e"/>
            </a:gs>
            <a:gs pos="50000">
              <a:srgbClr val="99ff33"/>
            </a:gs>
            <a:gs pos="100000">
              <a:srgbClr val="5c991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932360" y="4508640"/>
            <a:ext cx="3743280" cy="2016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Отчет групп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«Биолог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1589040" cy="2186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227640" y="2060640"/>
            <a:ext cx="2517840" cy="1746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84360" y="4508640"/>
            <a:ext cx="3665520" cy="201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2916360" y="2924280"/>
            <a:ext cx="2808000" cy="1368360"/>
          </a:xfrm>
          <a:prstGeom prst="ellipse">
            <a:avLst/>
          </a:prstGeom>
          <a:solidFill>
            <a:srgbClr val="ffff00">
              <a:alpha val="63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Биологичес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фосф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003640" y="4581360"/>
            <a:ext cx="3600720" cy="1943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3419640" y="1052640"/>
            <a:ext cx="2047680" cy="1608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7" name=""/>
          <p:cNvSpPr/>
          <p:nvPr/>
        </p:nvSpPr>
        <p:spPr>
          <a:xfrm flipH="1">
            <a:off x="2771640" y="4076640"/>
            <a:ext cx="50328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35640" y="4005360"/>
            <a:ext cx="50472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2268360" y="3068640"/>
            <a:ext cx="71928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651640" y="3068280"/>
            <a:ext cx="50472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356000" y="2565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91e"/>
            </a:gs>
            <a:gs pos="50000">
              <a:srgbClr val="99ff33"/>
            </a:gs>
            <a:gs pos="100000">
              <a:srgbClr val="5c991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«Осторожно! Фосфор!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Токсикология элементарного фосфора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5057280"/>
            <a:ext cx="89647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66"/>
                </a:solidFill>
                <a:latin typeface="Times New Roman"/>
              </a:rPr>
              <a:t>Красный фосфо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практически нетоксичен (токсичность ему придают примеси белого фосфора). Пыль красного фосфора, попадая в легкие, вызывает пневмонию при хроническом действ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Белый фосфо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очень ядовит. Попадая на кожу, тлеющий белый фосфор даёт тяжелые ож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472000" cy="3610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91e"/>
            </a:gs>
            <a:gs pos="50000">
              <a:srgbClr val="99ff33"/>
            </a:gs>
            <a:gs pos="100000">
              <a:srgbClr val="5c991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651640" y="3789360"/>
            <a:ext cx="1871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и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35280" y="5229360"/>
            <a:ext cx="1871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ff">
              <a:alpha val="5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то важнее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684036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91e"/>
            </a:gs>
            <a:gs pos="50000">
              <a:srgbClr val="99ff33"/>
            </a:gs>
            <a:gs pos="100000">
              <a:srgbClr val="5c991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0" t="16253" r="0" b="-993"/>
          <a:stretch/>
        </p:blipFill>
        <p:spPr>
          <a:xfrm>
            <a:off x="0" y="1197000"/>
            <a:ext cx="9144000" cy="58323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Отчет групп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ffcc"/>
                </a:solidFill>
                <a:latin typeface="Arial"/>
              </a:rPr>
              <a:t>«Технолог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76360" y="1628640"/>
            <a:ext cx="60483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рючесть – наиболее важное свойство фосфор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92720" y="3573360"/>
            <a:ext cx="3600360" cy="3097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ffff">
                  <a:alpha val="42352"/>
                </a:srgbClr>
              </a:gs>
              <a:gs pos="100000">
                <a:srgbClr val="00c9c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Известен людям фосфор красный,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Ведь спички зажигают все.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В составе смеси безопасной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Он есть на каждом коробке.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Запомним: в спичечной головке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Смесь серы с солью Бертолле.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Мы чиркнем спичкой о коробку,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И вмиг окажемся в тепле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P + 5KCL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3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+ 5KC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91e"/>
            </a:gs>
            <a:gs pos="50000">
              <a:srgbClr val="99ff33"/>
            </a:gs>
            <a:gs pos="100000">
              <a:srgbClr val="5c991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Основные направления применения фосфора и его соеди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primenenie"/>
          <p:cNvPicPr/>
          <p:nvPr/>
        </p:nvPicPr>
        <p:blipFill>
          <a:blip r:embed="rId1"/>
          <a:stretch/>
        </p:blipFill>
        <p:spPr>
          <a:xfrm>
            <a:off x="395280" y="1125360"/>
            <a:ext cx="8532720" cy="5492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91e"/>
            </a:gs>
            <a:gs pos="50000">
              <a:srgbClr val="99ff33"/>
            </a:gs>
            <a:gs pos="100000">
              <a:srgbClr val="5c991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Закреп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8920" y="764640"/>
            <a:ext cx="87138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Задание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пишите  для своего энциклопедического словаря статью о фосфо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9280" y="2060640"/>
            <a:ext cx="8785440" cy="3660120"/>
          </a:xfrm>
          <a:prstGeom prst="rect">
            <a:avLst/>
          </a:prstGeom>
          <a:solidFill>
            <a:srgbClr val="ccff33">
              <a:alpha val="82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ОСФОР (лат. Phosphorus), химическая формула - Р,  название от греч. phosphoros - светоносный. Образует несколько модификаций - белый, красный, черный и металлический фосфор. Белый фосфор легко самовоспламеняется, светится в темноте (отсюда название), ядовит; красный менее активен химически, не ядовит. Добывают из апатитов и фосфоритов. Главный потребитель - сельское хозяйство (фосфорные удобрения); применяется в спичечном производстве, металлургии, в органическом синтезе и др. Фосфор является важнейшим биогенным элементом. Присутствует в живых клетках в виде орто- и пирофосфорной кислот и их производных,  обеспечивает протекание всех жизненных процессов в мозге, нормальное функционирование нервной системы(поэтому фосфор и называется  «элементом мысли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91e"/>
            </a:gs>
            <a:gs pos="50000">
              <a:srgbClr val="99ff33"/>
            </a:gs>
            <a:gs pos="100000">
              <a:srgbClr val="5c991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260280"/>
            <a:ext cx="8964720" cy="2016360"/>
          </a:xfrm>
          <a:prstGeom prst="roundRect">
            <a:avLst>
              <a:gd name="adj" fmla="val 16667"/>
            </a:avLst>
          </a:prstGeom>
          <a:solidFill>
            <a:srgbClr val="99ff33">
              <a:alpha val="27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189000"/>
            <a:ext cx="8966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…Да! Это была собака, огромная, черная, как смоль. Но такой собаки еще никто из нас, смертных, не видал. Из её отверстой пасти вырывалось пламя, глаза метали искры, по морде и загривку переливался мерцающий огонь. Ни в чьем воспаленном мозгу не могло возникнуть видение более страшное, долее омерзительное, чем это адское существо, выскочившее на нас из тумана… Страшный пес, величиной с молодую львицу. Его огромная пасть все еще светилась голубоватым пламенем, глубоко дикие глаза были обведены огненными кругами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Я дотронулся до этой светящейся головы и, отняв руку, увидел, что мои пальцы тоже засветились в темноте. Фосфор, - сказал я»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i="1" lang="ru-RU" sz="1600" spc="-1" strike="noStrike">
                <a:solidFill>
                  <a:srgbClr val="66ff33"/>
                </a:solidFill>
                <a:latin typeface="Arial"/>
              </a:rPr>
              <a:t>«Собака Баскервилей».      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Артур Конан-Дойл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5300640"/>
            <a:ext cx="9144000" cy="936720"/>
          </a:xfrm>
          <a:prstGeom prst="roundRect">
            <a:avLst>
              <a:gd name="adj" fmla="val 16667"/>
            </a:avLst>
          </a:prstGeom>
          <a:solidFill>
            <a:srgbClr val="ffffff">
              <a:alpha val="9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роблемный вопро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«Насколько правдив был автор данного текста с научной точки зрения?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34035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91e"/>
            </a:gs>
            <a:gs pos="50000">
              <a:srgbClr val="99ff33"/>
            </a:gs>
            <a:gs pos="100000">
              <a:srgbClr val="5c991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132000" y="3429000"/>
            <a:ext cx="2880000" cy="27273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838160" y="3290760"/>
            <a:ext cx="1276560" cy="1143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084720" y="1557360"/>
            <a:ext cx="2808360" cy="43927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хим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учеб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Ф.Г. Фельдма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.Е. Рудзити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«Химия 9 класс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ар. 2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24000" y="1484280"/>
            <a:ext cx="2808000" cy="44640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усскому язы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дготовить к сво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татье о фосфо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формате ГИ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91e"/>
            </a:gs>
            <a:gs pos="50000">
              <a:srgbClr val="99ff33"/>
            </a:gs>
            <a:gs pos="100000">
              <a:srgbClr val="5c991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 rot="19687200">
            <a:off x="17640" y="2773080"/>
            <a:ext cx="9144000" cy="8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СПАСИБО  ЗА  УРОК!</a:t>
            </a:r>
            <a:endParaRPr b="1" i="1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076720" y="3429000"/>
            <a:ext cx="316728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91e"/>
            </a:gs>
            <a:gs pos="50000">
              <a:srgbClr val="99ff33"/>
            </a:gs>
            <a:gs pos="100000">
              <a:srgbClr val="5c991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Занимательная мину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0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гра «Поиграем в сло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Аденозинтрифосфа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бходимо составить, используя буквы этого слова, как можно больше слов, имеющих непосредственное отношение к хим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00720" y="2133720"/>
            <a:ext cx="4465440" cy="3349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91e"/>
            </a:gs>
            <a:gs pos="50000">
              <a:srgbClr val="99ff33"/>
            </a:gs>
            <a:gs pos="100000">
              <a:srgbClr val="5c991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Го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6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424720" cy="3600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2920320" y="404640"/>
            <a:ext cx="384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Отгадай ребу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91e"/>
            </a:gs>
            <a:gs pos="50000">
              <a:srgbClr val="99ff33"/>
            </a:gs>
            <a:gs pos="100000">
              <a:srgbClr val="5c991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13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8352000" cy="3168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Отгадай реб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522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Окси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91e"/>
            </a:gs>
            <a:gs pos="50000">
              <a:srgbClr val="99ff33"/>
            </a:gs>
            <a:gs pos="100000">
              <a:srgbClr val="5c991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Отгадай реб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16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569080" cy="3006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88" name=""/>
          <p:cNvSpPr/>
          <p:nvPr/>
        </p:nvSpPr>
        <p:spPr>
          <a:xfrm>
            <a:off x="539640" y="508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Элем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91e"/>
            </a:gs>
            <a:gs pos="50000">
              <a:srgbClr val="99ff33"/>
            </a:gs>
            <a:gs pos="100000">
              <a:srgbClr val="5c991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260280"/>
            <a:ext cx="8964720" cy="2016360"/>
          </a:xfrm>
          <a:prstGeom prst="roundRect">
            <a:avLst>
              <a:gd name="adj" fmla="val 16667"/>
            </a:avLst>
          </a:prstGeom>
          <a:solidFill>
            <a:srgbClr val="99ff33">
              <a:alpha val="27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189000"/>
            <a:ext cx="8966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…Да! Это была собака, огромная, черная, как смоль. Но такой собаки еще никто из нас, смертных, не видал. Из её отверстой пасти вырывалось пламя, глаза метали искры, по морде и загривку переливался мерцающий огонь. Ни в чьем воспаленном мозгу не могло возникнуть видение более страшное, долее омерзительное, чем это адское существо, выскочившее на нас из тумана… Страшный пес, величиной с молодую львицу. Его огромная пасть все еще светилась голубоватым пламенем, глубоко дикие глаза были обведены огненными кругами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Я дотронулся до этой светящейся головы и, отняв руку, увидел, что мои пальцы тоже засветились в темноте. Фосфор, - сказал я»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i="1" lang="ru-RU" sz="1600" spc="-1" strike="noStrike">
                <a:solidFill>
                  <a:srgbClr val="66ff33"/>
                </a:solidFill>
                <a:latin typeface="Arial"/>
              </a:rPr>
              <a:t>«Собака Баскервилей».      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Артур Конан-Дойл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4035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91e"/>
            </a:gs>
            <a:gs pos="50000">
              <a:srgbClr val="99ff33"/>
            </a:gs>
            <a:gs pos="100000">
              <a:srgbClr val="5c991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u.wikipedia.org/wiki/%D4%EE%F1%F4%EE%F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dok.opredelim.com/docs/index-1473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mages.yandex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papamamaya.ucoz.ua/index/skolko_vesit_zemlja/0-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burundi.mid.ru/rusy_ru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new-anoli.ru/post1787610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liveinternet.ru/users/meego/page14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spanishdict.com/answers/211140/our-resident-dog-loving-engineer-chris-indiana-has-50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mediagnosis.ru/HISTORY/GRAPH/Pictures/JPG/T9-01-03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chscourier.com/wp-content/uploads/2013/03/12761136-earth-globe-cloud-map-side-of-the-asia-and-australia-298x298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orldmystic.ru/uploads/posts/2011-10/1318410431_56701773_1269081769_solarsystem_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www.sevstone.ru/userfiles/Image/frankolit6-2x3x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www.muviki.ru/show/3294367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www.vevivi.ru/best/Sestrinskoe-delo-v-khirurgii-ref168179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o-zubah.ru/?p=5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izduli.com/atf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ncyclopaedia.biga.ru/enc/science_and_technology/NUKLEINOVIE_KISLOTI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yk-news.kz/frontpage?page=2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orodkiev.com.ua/index.php?newsid=233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hool-69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74210s30.edusite.ru/p16aa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miz.biz/viewtopic.php?p=533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g3.board.com.ua/a/2002142065/wm/1-perevod-ukrainskij-russkij-anglijskij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ernika.org/users/zvv-79/works/rebusy-po-khim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91e"/>
            </a:gs>
            <a:gs pos="50000">
              <a:srgbClr val="99ff33"/>
            </a:gs>
            <a:gs pos="100000">
              <a:srgbClr val="5c991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Толковый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ловарь русского языка</a:t>
            </a:r>
            <a:br>
              <a:rPr sz="36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С.И. Ожего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08000" y="1988640"/>
            <a:ext cx="54356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6600cc"/>
                </a:solidFill>
                <a:latin typeface="Times New Roman"/>
              </a:rPr>
              <a:t>«ФОСФОР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, -а, м.  Химический элемент, содержащийся в некоторых минералах, костях, в животных и растительных тканях. Красный фосфор. Белый фосфор (легковоспламеняющийся и светящийся в темноте).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прил. Фосфорный, -ая, -ое.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3838320" cy="4525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91e"/>
            </a:gs>
            <a:gs pos="50000">
              <a:srgbClr val="99ff33"/>
            </a:gs>
            <a:gs pos="100000">
              <a:srgbClr val="5c991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Творческие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6688" t="0" r="9817" b="0"/>
          <a:stretch/>
        </p:blipFill>
        <p:spPr>
          <a:xfrm>
            <a:off x="7020000" y="3933720"/>
            <a:ext cx="1800000" cy="25909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516720" y="1052640"/>
            <a:ext cx="2260440" cy="21859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24000" y="1125360"/>
            <a:ext cx="2685960" cy="21877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859280" y="3933720"/>
            <a:ext cx="1641600" cy="25909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395280" y="3933720"/>
            <a:ext cx="1741320" cy="26622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3635280" y="1052640"/>
            <a:ext cx="2230560" cy="23032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2627280" y="3860640"/>
            <a:ext cx="1655640" cy="27370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539640" y="1268280"/>
            <a:ext cx="2303640" cy="289080"/>
          </a:xfrm>
          <a:prstGeom prst="rect">
            <a:avLst/>
          </a:prstGeom>
          <a:solidFill>
            <a:srgbClr val="bbe0e3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5280" y="1197000"/>
            <a:ext cx="2233800" cy="289080"/>
          </a:xfrm>
          <a:prstGeom prst="rect">
            <a:avLst/>
          </a:prstGeom>
          <a:solidFill>
            <a:srgbClr val="bbe0e3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ИМ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16720" y="1197000"/>
            <a:ext cx="2233440" cy="289080"/>
          </a:xfrm>
          <a:prstGeom prst="rect">
            <a:avLst/>
          </a:prstGeom>
          <a:solidFill>
            <a:srgbClr val="bbe0e3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УСОВ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6308640"/>
            <a:ext cx="1728720" cy="287280"/>
          </a:xfrm>
          <a:prstGeom prst="rect">
            <a:avLst/>
          </a:prstGeom>
          <a:solidFill>
            <a:srgbClr val="bbe0e3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ИЗ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56000" y="6308640"/>
            <a:ext cx="1800000" cy="289080"/>
          </a:xfrm>
          <a:prstGeom prst="rect">
            <a:avLst/>
          </a:prstGeom>
          <a:solidFill>
            <a:srgbClr val="bbe0e3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ХНО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6237360"/>
            <a:ext cx="1584360" cy="217440"/>
          </a:xfrm>
          <a:prstGeom prst="rect">
            <a:avLst/>
          </a:prstGeom>
          <a:solidFill>
            <a:srgbClr val="bbe0e3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ИО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20000" y="6165720"/>
            <a:ext cx="1800000" cy="289080"/>
          </a:xfrm>
          <a:prstGeom prst="rect">
            <a:avLst/>
          </a:prstGeom>
          <a:solidFill>
            <a:srgbClr val="bbe0e3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ЕО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91e"/>
            </a:gs>
            <a:gs pos="50000">
              <a:srgbClr val="99ff33"/>
            </a:gs>
            <a:gs pos="100000">
              <a:srgbClr val="5c991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63640" y="5445000"/>
            <a:ext cx="547236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Отчет группы 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«Истори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476360" y="548928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Мечтая раздобыть свой философский камень, </a:t>
            </a:r>
            <a:br>
              <a:rPr sz="1600"/>
            </a:b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Способный приоткрыть златые ворота, </a:t>
            </a:r>
            <a:br>
              <a:rPr sz="1600"/>
            </a:b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Алхимик Бранд увидел синий пламень, </a:t>
            </a:r>
            <a:br>
              <a:rPr sz="1600"/>
            </a:b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И фосфором нарек его тогда…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365800" cy="40244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611280" y="74844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сфор открыт гамбургским алхимиком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Хеннигом Брандо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в 1669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38836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3632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91e"/>
            </a:gs>
            <a:gs pos="50000">
              <a:srgbClr val="99ff33"/>
            </a:gs>
            <a:gs pos="100000">
              <a:srgbClr val="5c991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Отчет групп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c00ff"/>
                </a:solidFill>
                <a:latin typeface="Arial"/>
              </a:rPr>
              <a:t>«Геолог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447640" cy="2447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508720" y="981000"/>
            <a:ext cx="3371760" cy="2335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84360" y="4365720"/>
            <a:ext cx="3779640" cy="2305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4"/>
          <a:srcRect l="0" t="5968" r="0" b="0"/>
          <a:stretch/>
        </p:blipFill>
        <p:spPr>
          <a:xfrm>
            <a:off x="4859280" y="4365720"/>
            <a:ext cx="3745080" cy="2276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3059280" y="2421000"/>
            <a:ext cx="208728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хож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осф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ри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716360" y="1773000"/>
            <a:ext cx="7192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2843280" y="1773000"/>
            <a:ext cx="72072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627280" y="3645000"/>
            <a:ext cx="72072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88000" y="3645000"/>
            <a:ext cx="86364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30908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3640" y="259920"/>
            <a:ext cx="856908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АЛЛОТРО́ПИЯ</a:t>
            </a: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, мн. нет, ж. [нем. Allotropie &lt; греч. allos другой, иной + tropos поворот; свойство]. хим. Существование одного и того же химического элемента в виде двух или нескольких простых веществ (напр., углерода — в виде угля, графита и алмаза). || Ср. модификация (в 3-м знач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91e"/>
            </a:gs>
            <a:gs pos="50000">
              <a:srgbClr val="99ff33"/>
            </a:gs>
            <a:gs pos="100000">
              <a:srgbClr val="5c991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Arial"/>
              </a:rPr>
              <a:t>Аллотропные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модификации фосф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File:PhosphComby.jpg"/>
          <p:cNvPicPr/>
          <p:nvPr/>
        </p:nvPicPr>
        <p:blipFill>
          <a:blip r:embed="rId1"/>
          <a:stretch/>
        </p:blipFill>
        <p:spPr>
          <a:xfrm>
            <a:off x="468360" y="1989000"/>
            <a:ext cx="8229600" cy="297504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755640" y="5084640"/>
            <a:ext cx="1655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л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5084640"/>
            <a:ext cx="1655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ас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32360" y="5084640"/>
            <a:ext cx="1655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ер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48360" y="5084640"/>
            <a:ext cx="187164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талл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6T06:46:12Z</dcterms:created>
  <dc:creator>Вера</dc:creator>
  <dc:description/>
  <dc:language>en-US</dc:language>
  <cp:lastModifiedBy>Вера</cp:lastModifiedBy>
  <dcterms:modified xsi:type="dcterms:W3CDTF">2013-10-05T14:10:56Z</dcterms:modified>
  <cp:revision>15</cp:revision>
  <dc:subject/>
  <dc:title>Тема: «Фосфор – элемент жизни»</dc:title>
</cp:coreProperties>
</file>